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DE2B-AE71-4461-9980-766184D46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E95E-A93F-48E7-9557-4A069A19B3D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645F-315C-426B-8AFB-CE0D047F584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B442-FFAA-4F23-B9B8-24C8265E704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7617-B976-43F1-A14C-6D370716A9D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8E8-9612-4871-9500-E0E333E1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67D-BD95-4530-AC3B-FD7B62B9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901-7796-4280-9A19-9152975A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CC0-B593-449B-809C-0E141956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85AA-31AB-4964-813D-B2CC17C5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22F8-4225-44F0-B709-00B6E725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1189-6EFD-49C7-9636-7C327F80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55B5-0CB7-400B-9560-4B93E5B2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6823-1CD8-4C3D-9378-0AB3216A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564B-4C93-4EF1-B9EB-A6FF7F2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231-2E84-4EAC-8928-81EE1341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243-EB9B-497A-8463-3BCB2E9B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7A80-743E-4DD2-BFFB-1B7129C3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CD5C-66BC-4347-8D29-C8F18CBF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5AB3-A6C7-43CD-B06F-1F520978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0AD3-9634-46EE-A6AF-CC7DC738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803E-93CB-4C0B-83F7-77C61390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50E-725A-4D22-9631-4CA59E0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34F-E029-46F0-BE5B-B66D9747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41D-C3AB-4402-99DC-E3759951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BB1-79D1-4C03-8EE1-B5F89577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846-1EDD-4F56-9D1D-A582A0AF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2E6-F1B2-47C7-8AF8-A6E78CB4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1E5-6F0E-4640-B2C2-98D3F61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5862-1114-48C0-A9D5-9F58A695819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83F8-2D8E-48FB-BC21-8F04920F3D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kipedia.org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66"/>
                </a:solidFill>
                <a:latin typeface="Arial"/>
              </a:rPr>
              <a:t>The effects of Internet on business</a:t>
            </a:r>
            <a:endParaRPr b="1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ablo, Duy and Ta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3AB1-6DC8-4B96-8F67-95E05A8D20F1}" type="datetime">
              <a:rPr b="0" lang="en-US" sz="2800" spc="-1" strike="noStrike">
                <a:solidFill>
                  <a:srgbClr val="006666"/>
                </a:solidFill>
                <a:latin typeface="Arial"/>
              </a:rPr>
              <a:t>07/29/26</a:t>
            </a:fld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E-Comme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idely applied in business fiel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unpredictabl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wikipedia.or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10/05/20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640" y="37162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 YOU FOR LISTENING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.=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pirate63"/>
          <p:cNvPicPr/>
          <p:nvPr/>
        </p:nvPicPr>
        <p:blipFill>
          <a:blip r:embed="rId1"/>
          <a:stretch/>
        </p:blipFill>
        <p:spPr>
          <a:xfrm>
            <a:off x="6051600" y="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rn 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PA (Advanced Research Project Agenc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ndation of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P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CP (Transmission Control Protoc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rn 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Accounting descri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Old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Use of computer and internet in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What is Accoun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R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recor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assify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ummariz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significant manner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one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ransa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ev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Arial"/>
              </a:rPr>
              <a:t>financial charac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3c653c"/>
                </a:solidFill>
                <a:latin typeface="Arial"/>
              </a:rPr>
              <a:t>interpreting the results thereo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(AICP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MoneyChart.jpg"/>
          <p:cNvPicPr/>
          <p:nvPr/>
        </p:nvPicPr>
        <p:blipFill>
          <a:blip r:embed="rId1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ual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ookkeeper kept the journals, the accounts receivable, the accounts payable and the ledgers in his best possible penmanship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(*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6" descr="Accounting[1].jpg"/>
          <p:cNvPicPr/>
          <p:nvPr/>
        </p:nvPicPr>
        <p:blipFill>
          <a:blip r:embed="rId1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puterise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of the first accounting programs was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Lot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1-2-3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1983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mall test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(*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0080" y="4000680"/>
          <a:ext cx="7786800" cy="2641320"/>
        </p:xfrm>
        <a:graphic>
          <a:graphicData uri="http://schemas.openxmlformats.org/drawingml/2006/table">
            <a:tbl>
              <a:tblPr/>
              <a:tblGrid>
                <a:gridCol w="3857760"/>
                <a:gridCol w="392904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2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net and Accou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0:15:27Z</dcterms:created>
  <dc:creator>Microsoft</dc:creator>
  <dc:description/>
  <dc:language>en-US</dc:language>
  <cp:lastModifiedBy>ict</cp:lastModifiedBy>
  <dcterms:modified xsi:type="dcterms:W3CDTF">2010-05-23T16:02:12Z</dcterms:modified>
  <cp:revision>29</cp:revision>
  <dc:subject/>
  <dc:title>Internet</dc:title>
</cp:coreProperties>
</file>